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66C-A83E-433F-A713-601ACB55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A6F-7553-4A68-98F1-8F1028F9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A52-D359-4094-B973-BA8E4899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4DF-3382-4F16-85F3-2198E9B4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9FE9-70A7-4D54-BE56-215A9941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F68E-5C17-4505-9F92-2C04215C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92B4-DBFF-4BAB-B656-4EB2CFBA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6083-14E1-4020-987B-66FC153D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BAE2-AA2C-42D6-863F-733D4DF4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9F7E-5374-41D2-B5E2-111852B8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BE27-FB02-4C72-A06F-F44E5C9F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840-994F-4575-A92F-D433BF39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EBC7-4D20-41C7-A13C-4065EFA3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00E4-2BE2-45C7-A0EC-7500F65E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5495-25C0-44BA-97B5-7E985168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0071-0098-4326-8A5A-B7F4EC72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BEE9-E148-4ED8-B742-BEC12EEB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8A1-02DF-437A-A747-8039EB87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B94F-8EBE-49E2-91BC-5A39AA0F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980-F159-4C36-929C-559572E1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20F-14F9-4297-8988-46F2C0CB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15A-23D8-4BA2-82FB-1EA476F9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965-D513-42E2-82DF-CFD7B5BA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B93-2677-4CFD-A6EA-4DA06EAC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2A90-F7AD-452E-B35E-E0CCE2CA0A5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30D8-1D51-4B7A-B328-64FC46D445F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-328680" y="523800"/>
            <a:ext cx="10374480" cy="4340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14400" y="3962520"/>
            <a:ext cx="739152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Grade Six  S.Y. : 2011- 2012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Room 101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Ms. Dainalyn M. Diambrang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Curriculum Preview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384120" y="30240"/>
            <a:ext cx="5029200" cy="2011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riting Langu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eading Langu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imple Sente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omplex Sente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king an essa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roper ways in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delivering a speech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Journ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5940360" y="533520"/>
            <a:ext cx="2784600" cy="2819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5410080" y="3733920"/>
            <a:ext cx="293220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12600" y="73080"/>
            <a:ext cx="6364440" cy="1828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360" y="16934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rea and Volume formula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Fraction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Systems of Equation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Integers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Radical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Percentag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Decimals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010200" y="1371600"/>
            <a:ext cx="2676600" cy="26766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572000" y="4419720"/>
            <a:ext cx="4267080" cy="21333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66600" y="274680"/>
            <a:ext cx="5761080" cy="1401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Mixture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Animal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Plant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Systems in the body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Scientific Method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Ecology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5481720" y="685800"/>
            <a:ext cx="34336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-103320" y="201600"/>
            <a:ext cx="7631280" cy="1670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Basic acrobatic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Danc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Dual sport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Team sport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Martial art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C:\Program Files\Microsoft Office\MEDIA\CAGCAT10\j0199036.wmf"/>
          <p:cNvPicPr/>
          <p:nvPr/>
        </p:nvPicPr>
        <p:blipFill>
          <a:blip r:embed="rId2"/>
          <a:stretch/>
        </p:blipFill>
        <p:spPr>
          <a:xfrm>
            <a:off x="6291360" y="1371600"/>
            <a:ext cx="2819160" cy="3309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Program Files\Microsoft Office\MEDIA\CAGCAT10\j0301480.wmf"/>
          <p:cNvPicPr/>
          <p:nvPr/>
        </p:nvPicPr>
        <p:blipFill>
          <a:blip r:embed="rId3"/>
          <a:stretch/>
        </p:blipFill>
        <p:spPr>
          <a:xfrm>
            <a:off x="4419720" y="4681440"/>
            <a:ext cx="2879640" cy="20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85680" y="201600"/>
            <a:ext cx="7096320" cy="1670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0" y="186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Good Values in lif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Indigenous Peopl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Religion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Morality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944960" y="1579680"/>
            <a:ext cx="385308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5054760" y="3952800"/>
            <a:ext cx="37432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4:17:43Z</dcterms:created>
  <dc:creator>DELL</dc:creator>
  <dc:description/>
  <dc:language>en-US</dc:language>
  <cp:lastModifiedBy>DELL</cp:lastModifiedBy>
  <dcterms:modified xsi:type="dcterms:W3CDTF">2011-10-06T01:47:20Z</dcterms:modified>
  <cp:revision>11</cp:revision>
  <dc:subject/>
  <dc:title>CURRICULUM PREVIEW  FOR GRADE SIX</dc:title>
</cp:coreProperties>
</file>